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093-56F1-450F-8174-7F7855B6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4A7-2F22-46B6-9626-6F5A80CF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3A2-E9BE-4A84-AA84-0AB19278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DF7-8BE1-4BBD-B024-BA5FCCF2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BA3-20D3-41D1-BE13-A117F58F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C42-02CE-4FF2-BB08-A41B5B90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EA2-0859-41B8-B360-CF4D9720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89D-164F-42A9-8026-62CAF5A9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FE7-84E6-4492-BFD4-4FBD76DC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20A-A1ED-4891-B92C-EB4BF530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C29-FA96-45F1-BA13-C0C116F6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F61-15DC-4276-91AD-77CDD400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9847-6216-4785-B3C3-C6531413B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286000"/>
            <a:ext cx="831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Joint Versus Margin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4585" r="0" b="34414"/>
          <a:stretch/>
        </p:blipFill>
        <p:spPr>
          <a:xfrm>
            <a:off x="304920" y="1219320"/>
            <a:ext cx="815328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8153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33400" r="0" b="37988"/>
          <a:stretch/>
        </p:blipFill>
        <p:spPr>
          <a:xfrm>
            <a:off x="380880" y="1143000"/>
            <a:ext cx="84582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65595" r="0" b="26062"/>
          <a:stretch/>
        </p:blipFill>
        <p:spPr>
          <a:xfrm>
            <a:off x="380880" y="2895480"/>
            <a:ext cx="845820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830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33400" r="0" b="37988"/>
          <a:stretch/>
        </p:blipFill>
        <p:spPr>
          <a:xfrm>
            <a:off x="380880" y="1143000"/>
            <a:ext cx="84582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73948" r="0" b="11746"/>
          <a:stretch/>
        </p:blipFill>
        <p:spPr>
          <a:xfrm>
            <a:off x="380880" y="2895480"/>
            <a:ext cx="84582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8305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3756"/>
          <a:stretch/>
        </p:blipFill>
        <p:spPr>
          <a:xfrm>
            <a:off x="457200" y="7621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738"/>
          <a:stretch/>
        </p:blipFill>
        <p:spPr>
          <a:xfrm>
            <a:off x="609480" y="685800"/>
            <a:ext cx="8001000" cy="551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86400" y="14479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609480" y="736560"/>
            <a:ext cx="7772400" cy="546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5867280"/>
            <a:ext cx="16002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1600200"/>
            <a:ext cx="2514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7017"/>
          <a:stretch/>
        </p:blipFill>
        <p:spPr>
          <a:xfrm>
            <a:off x="914400" y="228600"/>
            <a:ext cx="7391520" cy="4386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238880" cy="1770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62720" y="914400"/>
            <a:ext cx="25905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5766"/>
          <a:stretch/>
        </p:blipFill>
        <p:spPr>
          <a:xfrm>
            <a:off x="1523880" y="1523880"/>
            <a:ext cx="6400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42122" r="0" b="35201"/>
          <a:stretch/>
        </p:blipFill>
        <p:spPr>
          <a:xfrm>
            <a:off x="1066680" y="1752480"/>
            <a:ext cx="7239240" cy="129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701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41041" r="0" b="48161"/>
          <a:stretch/>
        </p:blipFill>
        <p:spPr>
          <a:xfrm>
            <a:off x="685800" y="1143000"/>
            <a:ext cx="807732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64808" r="0" b="22241"/>
          <a:stretch/>
        </p:blipFill>
        <p:spPr>
          <a:xfrm>
            <a:off x="685800" y="1884240"/>
            <a:ext cx="8077320" cy="782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2666880"/>
            <a:ext cx="80773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762120" y="895320"/>
            <a:ext cx="77724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30800" y="23432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43203" r="0" b="48170"/>
          <a:stretch/>
        </p:blipFill>
        <p:spPr>
          <a:xfrm>
            <a:off x="304920" y="2057400"/>
            <a:ext cx="8380440" cy="622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76953" r="0" b="15766"/>
          <a:stretch/>
        </p:blipFill>
        <p:spPr>
          <a:xfrm>
            <a:off x="303120" y="2666880"/>
            <a:ext cx="838224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8305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457200" y="685800"/>
            <a:ext cx="83818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457200" y="609480"/>
            <a:ext cx="82296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5766"/>
          <a:stretch/>
        </p:blipFill>
        <p:spPr>
          <a:xfrm>
            <a:off x="457200" y="76212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30736" r="0" b="15766"/>
          <a:stretch/>
        </p:blipFill>
        <p:spPr>
          <a:xfrm>
            <a:off x="609480" y="380880"/>
            <a:ext cx="8153640" cy="358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7924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7766"/>
          <a:stretch/>
        </p:blipFill>
        <p:spPr>
          <a:xfrm>
            <a:off x="380880" y="914400"/>
            <a:ext cx="830592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31210" r="0" b="17766"/>
          <a:stretch/>
        </p:blipFill>
        <p:spPr>
          <a:xfrm>
            <a:off x="533520" y="380880"/>
            <a:ext cx="8305560" cy="3489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8077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533520" y="838080"/>
            <a:ext cx="79246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380880" y="6094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9:17:01Z</dcterms:created>
  <dc:creator>david g. kleinbaum</dc:creator>
  <dc:description/>
  <dc:language>en-US</dc:language>
  <cp:lastModifiedBy>dkleinb</cp:lastModifiedBy>
  <dcterms:modified xsi:type="dcterms:W3CDTF">2003-10-28T14:48:54Z</dcterms:modified>
  <cp:revision>33</cp:revision>
  <dc:subject/>
  <dc:title> Confounding Involving Several Risk Factors</dc:title>
</cp:coreProperties>
</file>